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17CB-95CE-4788-80EF-1937EA176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0313-C1E5-43B9-B59F-92274D7DB6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9CD4-E862-4C97-AC90-78CDC3D5939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65D7-E76F-4812-84AE-323E1B90071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5B8F-FB46-4E25-BE35-894EAACEF8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A5B1-ACA2-47E1-8C82-89A9B62272E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96EF-7E9A-47FB-AE8D-F009FC48EDF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436F-4804-4A4E-9FDD-B1D81E6A278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B8F1-AA22-4397-BC8A-8AFAA8DD07E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8FCC-4FF6-4870-8B5F-001D4884D39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2EF1-4587-488D-9A76-F8F00DDBE1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12A3-B98E-44F6-8C2F-00E1F268390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F838-26CD-418D-A3AE-27A0466A862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7FA4-CBFE-4C26-89BE-8EBD6482CC4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2D4E-3A7C-455C-BFCC-B567E8B9C08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7A5B-3644-4FB6-8125-8F9EA21102B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1438-44DE-483B-8C85-BF7227FC21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6C28-3BDD-4904-AB59-5D021E7EF39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6D72-5788-46DA-B34E-CEA0EFB7F69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1954-D2B4-4EB7-B8B7-1E8C96AE159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A3C-1C49-493A-954F-DC73C6A7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996-9028-4D20-9BDF-229ED16F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FF7-34A6-4A38-8076-EC91ADB8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6D3-D4E8-4402-9438-07E333DA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060-D2B9-46CD-ABBF-6FD12DC6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C2E-380D-4206-BFB3-06321086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A1B-ABC3-4FB1-9880-50A5305F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CA1-3F3E-4DDF-AC45-A32A589D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6AC-BFF4-4522-BE4A-56753967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3E5-F1AC-4D81-9231-45D633D4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BFF-32A6-46AC-90BC-E1F13774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3B4-2CC1-4D70-AC54-9045B723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1DA6-2DD6-4B32-8F46-74DA66D47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Сложени системи</a:t>
            </a:r>
            <a:br>
              <a:rPr sz="4400"/>
            </a:br>
            <a:r>
              <a:rPr b="1" lang="el-GR" sz="4400" spc="-1" strike="noStrike">
                <a:solidFill>
                  <a:srgbClr val="000000"/>
                </a:solidFill>
                <a:latin typeface="Calibri"/>
              </a:rPr>
              <a:t> Δ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G и улога ATP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најзначанији пример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7818120" y="6470640"/>
            <a:ext cx="13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1371600" y="4557600"/>
            <a:ext cx="64008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24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52280" y="71280"/>
            <a:ext cx="876312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бе реакције су важни ступњеви који спрегнути са другим реакцијама чине процесе у ћелији спонтаним, при чему с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Спонтани процес хидролизе AT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 спреже са низом других неспонтаних процеса дајући енергију потребну за њихово одвијањ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P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→ ADP + 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lt;0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 →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+ ATP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→ C + ADP +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T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Неспонтан процес грађења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T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P + P 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→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ATP +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 спреже са низом спонтаних процеса као што су оксидације-сагоревања хранљивих материја, респираторним процесима или са спонтаним реакцијама током фотосинтезе,  који дају енергију потребну за грађење молекул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и тиме чине укупан процес спонта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4"/>
          <p:cNvSpPr/>
          <p:nvPr/>
        </p:nvSpPr>
        <p:spPr>
          <a:xfrm>
            <a:off x="152280" y="266688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Ш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је високоспонтан процес који тера ћелију да рад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52280" y="99072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Високо спонтани процес који тера ћелију да ради је “разградња хидролиза молекула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ATP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572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нозин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-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(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фа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5504040"/>
            <a:ext cx="92962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P      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ADP  +   фосфат  +   топлота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СПОНТАН ПРОЦ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један велики молекул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два мања молекула    +     енер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6782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380880" y="1090440"/>
            <a:ext cx="8535960" cy="5767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3039120" y="3124080"/>
            <a:ext cx="29786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денозин трифосфат (A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7545600" y="4821120"/>
            <a:ext cx="9759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Eнерг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990880" y="146052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565800" y="146052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133880" y="146376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146840" y="479412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3578400" y="479412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552680" y="480060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760400" y="4915080"/>
            <a:ext cx="4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Bold"/>
                <a:ea typeface="Arial Bold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428640" y="6172200"/>
            <a:ext cx="29041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Aденозин дифосфат (AD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529560" y="6095880"/>
            <a:ext cx="2181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неоргански фосф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5281200" y="3398760"/>
            <a:ext cx="424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old"/>
                <a:ea typeface="Arial Bold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Bold"/>
                <a:ea typeface="Arial Bold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 Bold"/>
                <a:ea typeface="Arial Bold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623320" y="4770360"/>
            <a:ext cx="131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6677640" y="4818240"/>
            <a:ext cx="131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6735600" y="205740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−32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6735600" y="27432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−20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6810120" y="358128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 = +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4 J/K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0" y="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ATP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 састоји од аденина рибозе и три фосфо групе, хидролизом која је реакција са водом настаје аденозин дифосфат и одваја се једна фосфо груп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380880" y="335268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ЕАКЦИЈА ЈЕ ЕГЗОТЕРМНА И СПОНТ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48320" y="-3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лагање ATP у  A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5504040"/>
            <a:ext cx="89154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P      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ADP  +   фосфат  +   топлота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СПОНТАН ПРОЦ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један велики молекул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два мања молекула )       +           (енерг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0" y="0"/>
            <a:ext cx="4495680" cy="5301000"/>
            <a:chOff x="0" y="0"/>
            <a:chExt cx="4495680" cy="5301000"/>
          </a:xfrm>
        </p:grpSpPr>
        <p:pic>
          <p:nvPicPr>
            <p:cNvPr id="111" name="Picture 2" descr="E_0705"/>
            <p:cNvPicPr/>
            <p:nvPr/>
          </p:nvPicPr>
          <p:blipFill>
            <a:blip r:embed="rId1"/>
            <a:stretch/>
          </p:blipFill>
          <p:spPr>
            <a:xfrm>
              <a:off x="200880" y="296280"/>
              <a:ext cx="4092120" cy="447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5"/>
            <p:cNvSpPr/>
            <p:nvPr/>
          </p:nvSpPr>
          <p:spPr>
            <a:xfrm>
              <a:off x="469080" y="0"/>
              <a:ext cx="10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den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1944000" y="722160"/>
              <a:ext cx="198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z-Cyrl-AZ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Ф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осфатне груп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335160" y="1551600"/>
              <a:ext cx="88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ibos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335160" y="2049120"/>
              <a:ext cx="34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денозин трифосфат  (AT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9"/>
            <p:cNvSpPr/>
            <p:nvPr/>
          </p:nvSpPr>
          <p:spPr>
            <a:xfrm>
              <a:off x="670320" y="2370240"/>
              <a:ext cx="134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z-Cyrl-AZ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Х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идролиза 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0"/>
            <p:cNvSpPr/>
            <p:nvPr/>
          </p:nvSpPr>
          <p:spPr>
            <a:xfrm>
              <a:off x="0" y="4752000"/>
              <a:ext cx="44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z-Cyrl-AZ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А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денозиндифосфат  (AD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1"/>
            <p:cNvSpPr/>
            <p:nvPr/>
          </p:nvSpPr>
          <p:spPr>
            <a:xfrm>
              <a:off x="3150720" y="4620960"/>
              <a:ext cx="13449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z-Cyrl-AZ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еорганскифосфат (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4"/>
          <p:cNvSpPr/>
          <p:nvPr/>
        </p:nvSpPr>
        <p:spPr>
          <a:xfrm>
            <a:off x="5105520" y="1905120"/>
            <a:ext cx="373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табилне везе, омогућавају реакцију хидролиз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даље реакциј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 другим молекул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18"/>
          <p:cNvCxnSpPr/>
          <p:nvPr/>
        </p:nvCxnSpPr>
        <p:spPr>
          <a:xfrm flipH="1" flipV="1">
            <a:off x="3276360" y="1447200"/>
            <a:ext cx="175320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Straight Arrow Connector 19"/>
          <p:cNvCxnSpPr/>
          <p:nvPr/>
        </p:nvCxnSpPr>
        <p:spPr>
          <a:xfrm flipH="1" flipV="1">
            <a:off x="2666520" y="1447200"/>
            <a:ext cx="236304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2" name="Straight Arrow Connector 23"/>
          <p:cNvCxnSpPr/>
          <p:nvPr/>
        </p:nvCxnSpPr>
        <p:spPr>
          <a:xfrm flipH="1">
            <a:off x="2742840" y="2437200"/>
            <a:ext cx="2286720" cy="160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3" name="Rectangle 25"/>
          <p:cNvSpPr/>
          <p:nvPr/>
        </p:nvSpPr>
        <p:spPr>
          <a:xfrm>
            <a:off x="3352680" y="2286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стабилне ве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6943680" y="609588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−32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дролиза аденозин трифосф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493640" y="1295280"/>
            <a:ext cx="4897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ATP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H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ADP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"/>
              <p:cNvSpPr txBox="1"/>
              <p:nvPr/>
            </p:nvSpPr>
            <p:spPr>
              <a:xfrm>
                <a:off x="2119320" y="2209680"/>
                <a:ext cx="425304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P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P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Δ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ΔG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Δ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ΔG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P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P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TextBox 4"/>
          <p:cNvSpPr/>
          <p:nvPr/>
        </p:nvSpPr>
        <p:spPr>
          <a:xfrm>
            <a:off x="457200" y="51055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ко је у овој реакцији  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G = -32 kJ/mol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H = -20   kJ/mo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ку врдност ће имати 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на 310 К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P даје енергиј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9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идролиза  ATP се </a:t>
            </a:r>
            <a:r>
              <a:rPr b="0" lang="sr-RS" sz="2900" spc="-1" strike="noStrike">
                <a:solidFill>
                  <a:srgbClr val="000000"/>
                </a:solidFill>
                <a:latin typeface="Calibri"/>
              </a:rPr>
              <a:t>спреже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са уобичајеним интермедијерним реакцијама  које нису спонтане као што је реакција настанка сахарозе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Calibri"/>
              </a:rPr>
              <a:t>ATP + H</a:t>
            </a:r>
            <a:r>
              <a:rPr b="1" lang="pt-BR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5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pt-BR" sz="2500" spc="-1" strike="noStrike">
                <a:solidFill>
                  <a:srgbClr val="000000"/>
                </a:solidFill>
                <a:latin typeface="Calibri"/>
                <a:ea typeface="Arial"/>
              </a:rPr>
              <a:t>→ </a:t>
            </a:r>
            <a:r>
              <a:rPr b="1" lang="pt-BR" sz="2500" spc="-1" strike="noStrike">
                <a:solidFill>
                  <a:srgbClr val="000000"/>
                </a:solidFill>
                <a:latin typeface="Calibri"/>
              </a:rPr>
              <a:t>ADP + P</a:t>
            </a:r>
            <a:r>
              <a:rPr b="1" i="1" lang="pt-BR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sr-RS" sz="2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−32 kJ/m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Calibri"/>
              </a:rPr>
              <a:t>глукоза +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фруктоза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 сахароза  + H</a:t>
            </a:r>
            <a:r>
              <a:rPr b="1" lang="pt-BR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Δ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G 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+27 kJ/mo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5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лукоза  + фруктоза  + ATP</a:t>
            </a:r>
            <a:r>
              <a:rPr b="1" lang="pt-BR" sz="2500" spc="-1" strike="noStrike">
                <a:solidFill>
                  <a:srgbClr val="000000"/>
                </a:solidFill>
                <a:latin typeface="Calibri"/>
                <a:ea typeface="Arial"/>
              </a:rPr>
              <a:t> →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сахароза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+ ADP + P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−5 kJ/m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09480" y="45720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рмедијер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реакциј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у формирању сахарозе је реакција фосфорилизације, у којој фосфо група са ATP бива пренета на глукозу чиме настаје фосфо-глукоза, која затим реагује са фруктозом и гради сахароз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33520" y="5638680"/>
            <a:ext cx="6095880" cy="954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укоза  + ATP → глукоза -P + 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лукоза -P + фруктоза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сахароза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+ 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hape 7"/>
          <p:cNvCxnSpPr>
            <a:stCxn id="132" idx="1"/>
            <a:endCxn id="130" idx="1"/>
          </p:cNvCxnSpPr>
          <p:nvPr/>
        </p:nvCxnSpPr>
        <p:spPr>
          <a:xfrm flipH="1" rot="10800000">
            <a:off x="532440" y="2644200"/>
            <a:ext cx="76680" cy="3456720"/>
          </a:xfrm>
          <a:prstGeom prst="bentConnector3">
            <a:avLst>
              <a:gd name="adj1" fmla="val -300000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560" y="761760"/>
            <a:ext cx="912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злагање  ATP  доводи до тога да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у ћелији захваљујући негативној вредности гибсове слободне енергиј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−32 kJ/mol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ће одвијање више процеса у којима се врши рад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CellWork1"/>
          <p:cNvPicPr/>
          <p:nvPr/>
        </p:nvPicPr>
        <p:blipFill>
          <a:blip r:embed="rId1"/>
          <a:stretch/>
        </p:blipFill>
        <p:spPr>
          <a:xfrm>
            <a:off x="2286000" y="2087640"/>
            <a:ext cx="5388120" cy="47973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2753280" y="2008080"/>
            <a:ext cx="446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нспорт јона кроз ћелијску мембра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961720" y="3684600"/>
            <a:ext cx="399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ханички рад, кретање протеи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793240" y="5132520"/>
            <a:ext cx="4447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Хемијски рад, грађење нових молеку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повезује спонтане и неспонтане процес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тварање  ATP у реакцији фосфо групе и  ADP захтева енергију, коју морају дати егзотермни процеси који се дешавају у ћелиј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P + P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+ енергија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TP је важна веза између егзотермних спонтаних (катаболични пут) и ендотермних неспонтаних процеса (анаболички пут) 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Дигестиј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макромолекул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58920" y="1219320"/>
            <a:ext cx="84582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Када ми варимо –дигестујемо макромолекуле хране, долази до раскидања веза и грађења мањих блокова макромолекула,  у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пштем случају дешавају се следећи процес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000000"/>
                </a:solidFill>
                <a:latin typeface="Calibri"/>
                <a:ea typeface="Arial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ротеини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амино кисели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000000"/>
                </a:solidFill>
                <a:latin typeface="Calibri"/>
                <a:ea typeface="Arial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олисахариди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једноставне шећ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Нуклеинске кселине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макромолек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51055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Крв носи те изграђујуће блокове у ћелије, где се они троше у неким процесима или бивају трансформисани у нове макромолеку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аболички путеви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990720"/>
            <a:ext cx="80773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М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етаболизам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 све реакције у ћелиј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000000"/>
                </a:solidFill>
                <a:latin typeface="Calibri"/>
                <a:ea typeface="Arial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етаболички путев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 секвенца ре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кција у којима се хемијске промене одигравају у великом низу ступњева од којих је сваки катализован ензим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У ћелијској респирацији шећер глукоза се користи као гориво, а процес се одвија у три главне фазе које укључују 20 реакција и 20 различитих ензи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ви закони хемије и физике важе у живим системима исто као и у неживи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762120" y="2438280"/>
            <a:ext cx="78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  <a:ea typeface="Arial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онзервација масе –закон о сачувању м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Конзервација момента- закон о сачувању количине кретањ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Закони термодинам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стадијума сагоревања глукоз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ваком се производ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1027" descr="cellrespir"/>
          <p:cNvPicPr/>
          <p:nvPr/>
        </p:nvPicPr>
        <p:blipFill>
          <a:blip r:embed="rId1"/>
          <a:stretch/>
        </p:blipFill>
        <p:spPr>
          <a:xfrm>
            <a:off x="685800" y="1035000"/>
            <a:ext cx="75438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96216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9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есет ступњева првог стадијума гл</a:t>
            </a:r>
            <a:r>
              <a:rPr b="0" lang="sr-RS" sz="2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колизе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1027" descr="glycolysis"/>
          <p:cNvPicPr/>
          <p:nvPr/>
        </p:nvPicPr>
        <p:blipFill>
          <a:blip r:embed="rId1"/>
          <a:stretch/>
        </p:blipFill>
        <p:spPr>
          <a:xfrm>
            <a:off x="4648320" y="0"/>
            <a:ext cx="34131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228600" y="838080"/>
            <a:ext cx="3048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ПРОЦЕС ЈЕ ВРЛ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СЛОЖЕН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Arrow 4"/>
          <p:cNvSpPr/>
          <p:nvPr/>
        </p:nvSpPr>
        <p:spPr>
          <a:xfrm>
            <a:off x="3657600" y="380880"/>
            <a:ext cx="977760" cy="331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ight Arrow 5"/>
          <p:cNvSpPr/>
          <p:nvPr/>
        </p:nvSpPr>
        <p:spPr>
          <a:xfrm>
            <a:off x="3657600" y="1600200"/>
            <a:ext cx="977760" cy="331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Arrow 6"/>
          <p:cNvSpPr/>
          <p:nvPr/>
        </p:nvSpPr>
        <p:spPr>
          <a:xfrm>
            <a:off x="3657600" y="2362320"/>
            <a:ext cx="977760" cy="3315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Arrow 7"/>
          <p:cNvSpPr/>
          <p:nvPr/>
        </p:nvSpPr>
        <p:spPr>
          <a:xfrm>
            <a:off x="3581280" y="3124080"/>
            <a:ext cx="978120" cy="331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8"/>
          <p:cNvSpPr/>
          <p:nvPr/>
        </p:nvSpPr>
        <p:spPr>
          <a:xfrm>
            <a:off x="3657600" y="3809880"/>
            <a:ext cx="977760" cy="331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ight Arrow 9"/>
          <p:cNvSpPr/>
          <p:nvPr/>
        </p:nvSpPr>
        <p:spPr>
          <a:xfrm>
            <a:off x="3657600" y="4495680"/>
            <a:ext cx="977760" cy="331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ight Arrow 10"/>
          <p:cNvSpPr/>
          <p:nvPr/>
        </p:nvSpPr>
        <p:spPr>
          <a:xfrm>
            <a:off x="3657600" y="5257800"/>
            <a:ext cx="977760" cy="331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ight Arrow 11"/>
          <p:cNvSpPr/>
          <p:nvPr/>
        </p:nvSpPr>
        <p:spPr>
          <a:xfrm>
            <a:off x="3657600" y="6019920"/>
            <a:ext cx="977760" cy="3315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ight Arrow 12"/>
          <p:cNvSpPr/>
          <p:nvPr/>
        </p:nvSpPr>
        <p:spPr>
          <a:xfrm>
            <a:off x="3733920" y="990720"/>
            <a:ext cx="977760" cy="3315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"/>
          <p:cNvSpPr/>
          <p:nvPr/>
        </p:nvSpPr>
        <p:spPr>
          <a:xfrm>
            <a:off x="4070520" y="0"/>
            <a:ext cx="2406600" cy="9907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0"/>
          <a:ext cx="8915400" cy="6523200"/>
        </p:xfrm>
        <a:graphic>
          <a:graphicData uri="http://schemas.openxmlformats.org/drawingml/2006/table">
            <a:tbl>
              <a:tblPr/>
              <a:tblGrid>
                <a:gridCol w="7772400"/>
                <a:gridCol w="1143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i glikolize – svi se odigravaju na odgovarajućim enzim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kJ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-glucos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P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-glucose-6-phosph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DP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-glucose-6-phosph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-fructose-6-phosph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-fructose- 6-diphosph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P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-fructose-1,6-diphosph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-fructose-1,6-diphosph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lyceraldehyde-3-phosphate 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ydroxyacetone phosph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ydroxyacetone phosph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lyceraldehyde-3-phosph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yceraldehyde-3-phosphate + phosphate + NAD+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-diphosphoglycerate + NADH + H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-diphosphoglycer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DP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3-phosphoglycer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phosphoglycer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-phosphoglyce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phosphoglycer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-phosphoenolpyruvate + H2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 phosphoenolpyruv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DP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yruv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yruvate + NADH + H+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actate + NAD </a:t>
                      </a:r>
                      <a:r>
                        <a:rPr b="0" lang="pt-BR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yruv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cetaldehyde + CO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taldehyde + NADH + H+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thanol + NAD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си у организму у којима учеству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TP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у спрегнути процеси грађења проте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16002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понтан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1)  </a:t>
            </a:r>
            <a:r>
              <a:rPr b="1" lang="az-Cyrl-AZ" sz="24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мино киселине  + толота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протен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)  ATP  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ADP + фосфат + толо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----------------------------------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1+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амино киселине  + ATP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протеин  + ADP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+ фосфат  + то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лот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168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регнути  процеси:  дисање и синтеза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28600" y="1828800"/>
            <a:ext cx="8915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спонтан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P + фосфат  + топлота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AT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на 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 + толот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на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+ ADP      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ATP +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+ топло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28600" y="4572000"/>
            <a:ext cx="8915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Комбинација процеса доводи до пораста укупне ентропиј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нтропија универзума рас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P/ADP одн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7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ипична ћелија садржи дес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т пута више молекула ATP  него молекула AD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Висок ниво концентрације  ATP утиче да реакција хидролизе која је високо егзоенергетска, омогућава дешавање реакција које су ендоен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ргетск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ћелија не може да складишти велику количину ATP –  ATP који се континуално троше и настају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228600" y="41400"/>
            <a:ext cx="8915400" cy="71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Битно је нагласити због важности коју молекул ATP  има у метаболичким процесима да људско тело садржи просечно свега око 50 gr ATP, што је уствари само разлика количине произведеног и разграђеног ATP у хидролитичком процесу. Количина награђеног ATP  је неупоредиво већ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Ако човек чија је маса 70кг током једног дана у</a:t>
            </a:r>
            <a:r>
              <a:rPr b="0" lang="sr-RS" sz="2300" spc="-1" strike="noStrike">
                <a:solidFill>
                  <a:srgbClr val="000000"/>
                </a:solidFill>
                <a:latin typeface="Arial"/>
                <a:ea typeface="Arial"/>
              </a:rPr>
              <a:t> организа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унесе око 2000 Kcal кроз храну и ако претпоставимо да се целокупна количина унете енергије потроши на синтезу ATP, при чему је промена стандардне слободне енергије у реакцији грађења  ATP једнака: 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+7.3 kcal /mol наградиће се 274 мола ATP (2000/7.3= 274). Пошто је М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TP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500g/mol, следи да је током једног дана синтетисано 274 x 500 =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137 kg ATP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приближно иста та маса се и хидролитички разлож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Што значи да људски организам свакога дана произведе масу ATP  која је скоро двоструко већа од масе организма. Будући да се у организму налази свега 50г ATP, следи да се током дана цикус  ATP –ADP.  понови ( 137000/50) нешто око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3000 пута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.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Енергија и конверзија енергиј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25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нергија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 способност тела да врши ра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тенцијална енергија је енергија стања или позиције; што укључује енергију садржану у хемијским веза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инетичка енергија је енергија кретањ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емијске реакције дају или примају енергију од околи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Метаболизам је укупан збир свих хемијских процеса који се дешавају у ћелиј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Анаболиза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енергија садржана у реакцијама; синтеза проду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Катаболиза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енергија ослобођена у реакцијама; разлагање проду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 сложених међусобно 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прегнутих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реак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28195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1) A →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+20.9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2) C → 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Δ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−33.5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купно A  + C → B + 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−12.6 kJ/m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 сложених међусобно 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прегнутих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реакциј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е две реакције су укупно спонтане и ако прва реакција није спонтана а друга јест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) 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+20.9 kJ/mol (+5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(2) 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→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Calibri"/>
              </a:rPr>
              <a:t>Δ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−33.5 kJ/mol (−8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упн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−12.6 kJ/mol (−3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е две реакције следе једна за другом обе су спонтан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3) A + 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 = 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4 kJ/mol (−2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(4) I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 + 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Calibri"/>
              </a:rPr>
              <a:t>Δ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 = −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4.2 kJ/mol (−1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упно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 = 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6 kJ/mol (−3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рмодинамички спрегнути процеси у ћелија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Живот ћелија се базира на термодинамички спрегнутим процесима у којима спонтани процеси омогућавају одвијање неспонтаних процеса, тако да је укупна Гибсова слободна енергија сп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гнутих процес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G&lt; 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У ћелијама се одвијају многобројни спрегнути процеси!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77920" y="228600"/>
            <a:ext cx="8561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ција која даје највећи допринос укупној спонтаности процеса у ћелији је повратна реакција молекула аденозин трифосфата (ATP), у којој се овај молекул хидролитички разлаже дајући молекул аденозин дифосфата (ADP)  и њој повратна реакција у којој се из молекула ADP  који реагује са фосфо групом синтетише AT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3428280" y="3819240"/>
            <a:ext cx="648720" cy="73800"/>
            <a:chOff x="3428280" y="3819240"/>
            <a:chExt cx="648720" cy="73800"/>
          </a:xfrm>
        </p:grpSpPr>
        <p:cxnSp>
          <p:nvCxnSpPr>
            <p:cNvPr id="66" name="Straight Arrow Connector 5"/>
            <p:cNvCxnSpPr/>
            <p:nvPr/>
          </p:nvCxnSpPr>
          <p:spPr>
            <a:xfrm>
              <a:off x="3463920" y="38192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7" name="Straight Arrow Connector 6"/>
            <p:cNvCxnSpPr/>
            <p:nvPr/>
          </p:nvCxnSpPr>
          <p:spPr>
            <a:xfrm flipH="1">
              <a:off x="3428280" y="3892320"/>
              <a:ext cx="648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8" name="Rectangle 5"/>
          <p:cNvSpPr/>
          <p:nvPr/>
        </p:nvSpPr>
        <p:spPr>
          <a:xfrm>
            <a:off x="1090440" y="3521880"/>
            <a:ext cx="5361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ATP + H</a:t>
            </a:r>
            <a:r>
              <a:rPr b="1" lang="en-US" sz="2800" spc="-1" strike="noStrike" baseline="-30000">
                <a:solidFill>
                  <a:srgbClr val="231f20"/>
                </a:solidFill>
                <a:latin typeface="Times New Roman"/>
                <a:ea typeface="Arial"/>
              </a:rPr>
              <a:t>2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O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   ADP + 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77920" y="4572000"/>
            <a:ext cx="8478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ција хидролизе ATP  је спонтана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T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 - 32.5 кЈ/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а повратна реакција мора бити неспонтана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D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+ 32.5 кЈ/m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130480" y="2800440"/>
            <a:ext cx="4860720" cy="2527200"/>
          </a:xfrm>
          <a:prstGeom prst="rect">
            <a:avLst/>
          </a:prstGeom>
          <a:ln w="0">
            <a:noFill/>
          </a:ln>
        </p:spPr>
      </p:pic>
      <p:sp>
        <p:nvSpPr>
          <p:cNvPr id="71" name="Oval 1"/>
          <p:cNvSpPr/>
          <p:nvPr/>
        </p:nvSpPr>
        <p:spPr>
          <a:xfrm>
            <a:off x="5881680" y="3875040"/>
            <a:ext cx="1512720" cy="762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1832040" y="3875040"/>
            <a:ext cx="1512720" cy="7621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04920" y="2286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дролиза ATP у ADP и реверзибилна реакција грађења  ATP из  ADP  представљају основу комплетне биоенергетике живих систем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 ATP  се у организму непрекидно рециклира, кроз процесе у којима се гради и разграђу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355840" y="2259720"/>
            <a:ext cx="40640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ATP + H</a:t>
            </a:r>
            <a:r>
              <a:rPr b="1" lang="en-US" sz="2800" spc="-1" strike="noStrike" baseline="-30000">
                <a:solidFill>
                  <a:srgbClr val="231f20"/>
                </a:solidFill>
                <a:latin typeface="Times New Roman"/>
                <a:ea typeface="Arial"/>
              </a:rPr>
              <a:t>2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O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   ADP +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915520" y="5288040"/>
            <a:ext cx="316764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ет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и тран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иосинтетски проц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31680" y="4919760"/>
            <a:ext cx="3340080" cy="192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сидацијa молекул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горевање хра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љ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вих материј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спир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тосин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6"/>
          <p:cNvCxnSpPr/>
          <p:nvPr/>
        </p:nvCxnSpPr>
        <p:spPr>
          <a:xfrm>
            <a:off x="4387320" y="2555640"/>
            <a:ext cx="599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Straight Arrow Connector 18"/>
          <p:cNvCxnSpPr/>
          <p:nvPr/>
        </p:nvCxnSpPr>
        <p:spPr>
          <a:xfrm flipH="1">
            <a:off x="4401360" y="2666520"/>
            <a:ext cx="599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Rectangle 20"/>
          <p:cNvSpPr/>
          <p:nvPr/>
        </p:nvSpPr>
        <p:spPr>
          <a:xfrm>
            <a:off x="5914800" y="3287880"/>
            <a:ext cx="2486160" cy="405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T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 - 32.5 кЈ/m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615600" y="3297240"/>
            <a:ext cx="2431080" cy="40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D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+ 32.5 кЈ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5T03:50:06Z</dcterms:created>
  <dc:creator>Vera Dondur</dc:creator>
  <dc:description/>
  <dc:language>en-US</dc:language>
  <cp:lastModifiedBy>Snezana Jovanovic</cp:lastModifiedBy>
  <dcterms:modified xsi:type="dcterms:W3CDTF">2023-10-27T12:50:39Z</dcterms:modified>
  <cp:revision>124</cp:revision>
  <dc:subject/>
  <dc:title>Slide 1</dc:title>
</cp:coreProperties>
</file>